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4B6-46F6-4657-90F4-22332787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C2F-A0DB-4465-8E5D-45325012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C8A-4883-4E80-B43F-A68E3237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4E4-150E-49FD-A187-2F628F98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85F-98E7-4B5C-8156-9672AF4A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1C4-CC60-4C86-AD4F-C02E3CCA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138-E036-431E-A9FF-B655B5A5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D47-C7E4-4A13-8374-5E459C98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29A-231A-49C7-AD5D-52112D0E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C1A-CA2F-46D8-BBFA-C19C8CF9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FDD-7BBF-4490-A0E4-AABE81A5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406-FC01-4464-9A0A-AF5F95A5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E1E8-0ED9-47D3-96CA-1A01CFD1C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hl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no idea when I woke  up that morning that morning that everything was about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3489480"/>
            <a:ext cx="24382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 went to my friends house for a sleep over at first everything was good until it got dar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24080" y="3166920"/>
            <a:ext cx="32767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ly and I where trick or treating in the dark and we  got lost  in the neibor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33920" y="3200400"/>
            <a:ext cx="2273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 “heard I will get you” said a voice  what who who is there Emily said  “a ghost” said a voice  “a ghost”! I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33720" y="3414600"/>
            <a:ext cx="43704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host said yes I want your candy that’s all but if you don’t I will get you ok  will give you are candy  so we gave the ghost are candy an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76920" y="42670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went back to normal  but then Emily and I turned into vampires and we stayed like that forever that ghost must have  put some  type of spell on u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193032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1930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07:27Z</dcterms:created>
  <dc:creator>student</dc:creator>
  <dc:description/>
  <dc:language>en-US</dc:language>
  <cp:lastModifiedBy>student</cp:lastModifiedBy>
  <dcterms:modified xsi:type="dcterms:W3CDTF">2010-10-28T17:51:23Z</dcterms:modified>
  <cp:revision>5</cp:revision>
  <dc:subject/>
  <dc:title>Halloween</dc:title>
</cp:coreProperties>
</file>